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AAC-08AE-44FF-8A2E-C092E647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FE1-6DC5-402B-B3F8-CBB060B1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B81-B31C-46CD-8139-9076D8C7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433-E21A-45C3-814A-B054B0B1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485-97AF-4449-A711-70EA4F01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622-684D-4396-8279-287742D7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D1E-B981-4EF0-9F88-83297515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868-4825-4D00-8184-86D4E52A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A8CD-9777-4C58-9F51-26631D84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1F8-61E7-41D3-BD00-A31B2ACE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D2AB-24A6-48F7-9641-09F1FAE9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F1E-261B-4DAD-9C5C-A936D080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C270-574A-42BA-92F5-83AFCB5F5C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p-new-zealand" descr="Landkarte von Neuseeland"/>
          <p:cNvPicPr/>
          <p:nvPr/>
        </p:nvPicPr>
        <p:blipFill>
          <a:blip r:embed="rId1"/>
          <a:stretch/>
        </p:blipFill>
        <p:spPr>
          <a:xfrm>
            <a:off x="0" y="210960"/>
            <a:ext cx="9144000" cy="643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karte_ozeanien" descr=""/>
          <p:cNvPicPr/>
          <p:nvPr/>
        </p:nvPicPr>
        <p:blipFill>
          <a:blip r:embed="rId1"/>
          <a:stretch/>
        </p:blipFill>
        <p:spPr>
          <a:xfrm>
            <a:off x="92160" y="314280"/>
            <a:ext cx="896148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a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Zealand is in the South Pacific Ocean, a long way from anywhere. Austr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the closest country and that is two thousand kilometres away. New Zealand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olated and this make it special. This isolation changes everything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– 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Zealand´s history, the weather, the way its people are and the trees, flower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animals that you can s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New Zealand is made up of two large islands – the North Island and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Island and a much smaller island, Steward Island. It is about the same size a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United Kingdom, but it has only four million people.  The UK has sixty-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illion people. There are almost a million young people under fifteen in Ne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Zea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he main language of NZ is English. NZ was once part of the British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and still has the British flag as part of its own fla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he weather in NZ is never usually really hot or cold, but it is hotter o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North Island where most people live (about 3 million). It often rains and 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can change quickly. Sometimes you can get many different kinds of weather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one day, especially on the South Is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New Zealand has a lot of water, clean air and good earth and there are 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farms. It is famous for its butter, cheese and meat, which it sells to Austral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he USA, Japan and the rest of Asia. There are forty million sheep in the country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hat´s ten for every pers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For a long time, no people lived in NZ. The first people to make NZ their h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were the Maori. They arriver from Polynesia in boats made of wood,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waka“. We don´t know when they arrived, but some people think it was betw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950-1130 AD. The Maori called NZ “Aotearoa“ or Land of the Long Whi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Cloud. Around the year 1700 europeans first came zo N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oday thousands of people go to NZ on holiday. They go to see the beauti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countryside and to enjoy sports. While they are there, tourists can also learn ab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he Maori and hear many Maori stories about NZ. The biggest business in NZ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now touris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How mountains and volcanoes be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aui was a boy who could do magic. One day he wanted to go fishing with his o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brothers. He hid in the bottom of his brother´s “waka“. Once out at sea, Maui´s br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found him. They wanted to take him back to the village because he was too young, b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aui quickly used his magic. He made his village look very far away – too far to go ho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is brothers had to let him st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When Maui and his brothers started fishing, Maui decided to use his magic again. So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e felt something very strong pulling on his fishing l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elp me!“ Maui called to his brothers and they all came to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Everyone pulled very hard until they pulled up the North Island of New Zea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aui didn´t want the gods to be angry with them for doing this and he moved away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is brothers to talk to the gods quietly. But while he was gone, his brothers began to arg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over the is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It´s mine!“ one shou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“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No, it´s mine!“ the other sa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hey became so angry they began to hit the island. Hit, hit, hit – over and over ag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As they hit, they made the mountains and volcanoes of the North Is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he Maori believe that the North Island looks like a fish, the South Island looks 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aui´s waka and Stewart Island looks like the waka´s anch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Match these facts  with the numb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Kilometres between New Zealand and Austr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eople in New Zea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eople in the United Kingd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eople under fifteen in New Zea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eople who live on the North Is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Sheep in New Zea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1          almost 1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2         2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3         3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4         4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5        40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6        61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2 Answer the ques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1 What is the main language in New Zeala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2 What is the climate like the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3 What food is New Zealand famous fo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4 What do the Maori people call New Zeala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5 When did people from Europe first come to New Zeala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6 What is the biggest business in New Zealand today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9:24:20Z</dcterms:created>
  <dc:creator>ucitel</dc:creator>
  <dc:description/>
  <dc:language>en-US</dc:language>
  <cp:lastModifiedBy>l91503201</cp:lastModifiedBy>
  <dcterms:modified xsi:type="dcterms:W3CDTF">2009-11-17T09:17:27Z</dcterms:modified>
  <cp:revision>5</cp:revision>
  <dc:subject/>
  <dc:title>New Zealand</dc:title>
</cp:coreProperties>
</file>